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850-80BC-4E2F-9E7E-E05E15C7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5C0-BCF7-4DBC-89AE-500D90DC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23D-252A-4936-B5BF-F51A31A4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5350-4C0E-4B4E-901F-ADA7C4FA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3EF-1F08-4DB2-9DC2-07E5F1CC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064-8909-406B-9294-DD27C543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9AD-B00C-4E05-994C-1987B023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9D3-3A7C-472B-BE54-117F3CBA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E03-3E70-4C51-A2EA-89824042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B1E-B635-4DF1-9C48-BC4FDD0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4D2-D94C-46CB-80F4-4052A7BB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E0C-892C-470F-9474-90D4ED9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B26D-A4DE-4E3C-AD8B-24A0768C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ire.typographie.org/gutenberg/sommaire.htm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utenber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utenberg" descr="Johann Gensfleisch dit Gutenber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gutenber" descr=""/>
          <p:cNvPicPr/>
          <p:nvPr/>
        </p:nvPicPr>
        <p:blipFill>
          <a:blip r:embed="rId3"/>
          <a:stretch/>
        </p:blipFill>
        <p:spPr>
          <a:xfrm>
            <a:off x="4648320" y="0"/>
            <a:ext cx="449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5:00:37Z</dcterms:created>
  <dc:creator>mr</dc:creator>
  <dc:description/>
  <dc:language>en-US</dc:language>
  <cp:lastModifiedBy>mr</cp:lastModifiedBy>
  <dcterms:modified xsi:type="dcterms:W3CDTF">2001-05-09T15:04:59Z</dcterms:modified>
  <cp:revision>2</cp:revision>
  <dc:subject/>
  <dc:title>Gutenberg </dc:title>
</cp:coreProperties>
</file>