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1A7-269B-4554-9CA4-023B61DF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F01-2478-4E5B-9BDD-A786C6B1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725-772D-42A9-AAFF-BD5491CD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037-2335-4DDC-9CFC-6B2DAB4E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C25-F8BF-42EE-953C-EFB2D951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20B-2BBB-4667-BE58-2C477934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D6F-3956-447C-A841-F575A9E2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548-600E-432A-B923-DEE93E58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3937-63ED-4044-80DA-8BEE36DE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F80-5105-463E-88DF-E9DBC21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C31-CBD2-47D2-B49F-02DA962B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3C0-A954-4809-83B9-808A976C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F3F8-04CE-46E3-A544-1A2EBEC66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294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kro13" descr="tiens, une Kro !!!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29:44Z</dcterms:created>
  <dc:creator>mr</dc:creator>
  <dc:description/>
  <dc:language>en-US</dc:language>
  <cp:lastModifiedBy>mr</cp:lastModifiedBy>
  <dcterms:modified xsi:type="dcterms:W3CDTF">2001-05-09T15:32:31Z</dcterms:modified>
  <cp:revision>1</cp:revision>
  <dc:subject/>
  <dc:title>Présentation PowerPoint</dc:title>
</cp:coreProperties>
</file>