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951-5712-4AC2-B375-6952D279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5B69-D36A-40B7-8050-D88019AE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426-FDB5-4155-AC23-188F6768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1E4-3E0B-48CA-9B06-F7E5B2C2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831-4944-4D34-AAB3-D68237ED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1A3-7E22-4308-8C92-1F3133E4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834-7BFD-4506-A2DD-416A6D53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5B2-D85F-4002-B2A4-D25179A0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739-D3FF-433F-AD23-F28EF427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2BCA-3631-45CF-AB64-424CC6CC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FDD1-49B7-4C54-8D5B-B97BB3A9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D27F-6B34-4097-A0B2-59144B76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05B9-58FD-418D-8916-DB21278B8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Gutenberg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Johannes Gensfleisch, dit) (Mayence, entre 1394 et 1399 ­ id., 1468), imprimeur allemand. Il perfectionna l’imprimerie en mettant au point les caractères typographiques de métal mobiles. Il travailla à Strasbourg entre 1430 et 1444 avant de regagner Mayence. Gutenberg aurait imprimé des feuilles mobiles qui marquent le début de la presse, un Calendrier astronomique, une Bible dite «à quarante-deux lignes» ou «Bible de Gutenberg», une Bible «à trente-six lignes» et des Lettres d’indulgence. Protégé par Adolphe de Nassau, archevêque de Mayence, il put y fonder, en 1465, une nouvelle imprimeri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4:50:55Z</dcterms:created>
  <dc:creator>mr</dc:creator>
  <dc:description/>
  <dc:language>en-US</dc:language>
  <cp:lastModifiedBy>mr</cp:lastModifiedBy>
  <dcterms:modified xsi:type="dcterms:W3CDTF">2001-05-09T14:59:33Z</dcterms:modified>
  <cp:revision>2</cp:revision>
  <dc:subject/>
  <dc:title>Gutenberg  (Johannes Gensfleisch, dit) (Mayence, entre 1394 et 1399 ­ id., 1468), imprimeur allemand. Il perfectionna l’imprimerie en mettant au point les caractères typographiques de métal mobiles. Il travailla à Strasbourg entre 1430 et 1444 avant de regagner Mayence. Gutenberg aurait imprimé des feuilles mobiles qui marquent le début de la presse, un Calendrier astronomique, une Bible dite «à quarante-deux lignes» ou «Bible de Gutenberg», une Bible «à trente-six lignes» et des Lettres d’indulgence. Protégé par Adolphe de Nassau, archevêque de Mayence, il put y fonder, en 1465, une nouvelle imprimerie. </dc:title>
</cp:coreProperties>
</file>