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8AB-4B77-4348-A50C-F32A30CE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BAE-BF9C-4446-812A-9ECA80E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695-EABE-45EC-93FF-F873A463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4A3-16B7-4732-8FDC-5DF9EC53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9C4-CEC2-4D3E-B25B-EBE8CB2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A5D-BC21-4920-9435-A3CC5E33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7E3-D28E-42D5-968D-8AD7257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1D4-7C9C-4398-85A1-FAB04F7D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32F-3900-4858-9267-1C67E985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59C-C43D-4D37-B138-DD1A4A88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73A-2A23-4617-A045-B21F78A5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318-9F6A-41C2-A255-2E3DB15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F9EE-6830-4359-A436-05B1AE2EB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kro13" descr="tiens, une Kro !!!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29:44Z</dcterms:created>
  <dc:creator>mr</dc:creator>
  <dc:description/>
  <dc:language>en-US</dc:language>
  <cp:lastModifiedBy>mr</cp:lastModifiedBy>
  <dcterms:modified xsi:type="dcterms:W3CDTF">2001-05-09T15:32:31Z</dcterms:modified>
  <cp:revision>1</cp:revision>
  <dc:subject/>
  <dc:title>Présentation PowerPoint</dc:title>
</cp:coreProperties>
</file>