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E95E-9081-48A2-AEE3-CCB82E4CD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7195-61DB-48D6-9824-053DAAE9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3B73-69B7-461E-9626-F7F4C2702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7F96-FC21-418D-B1CA-D6DEF4B97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5AB8-5183-4674-9C6A-8F6A33E5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BDC0-D872-4EBD-A7F3-915BF907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337B-FFFE-437A-80B2-94D633CA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51FA-4316-4519-9345-9C9EF412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4E3C-FD85-4D6D-BED0-07991B91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2E24-78F7-4AC0-95F9-84B31AC2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23EC-15F3-462F-9DD0-6DCE3DA6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9DAA-64DF-414E-B098-691CD788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A6D4-F21E-4A71-8AD0-D5A34BC47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Gutenber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Johannes Gensfleisch, dit) (Mayence, entre 1394 et 1399 ­ id., 1468), imprimeur allemand. Il perfectionna l’imprimerie en mettant au point les caractères typographiques de métal mobiles. Il travailla à Strasbourg entre 1430 et 1444 avant de regagner Mayence. Gutenberg aurait imprimé des feuilles mobiles qui marquent le début de la presse, un Calendrier astronomique, une Bible dite «à quarante-deux lignes» ou «Bible de Gutenberg», une Bible «à trente-six lignes» et des Lettres d’indulgence. Protégé par Adolphe de Nassau, archevêque de Mayence, il put y fonder, en 1465, une nouvelle imprimeri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14:50:55Z</dcterms:created>
  <dc:creator>mr</dc:creator>
  <dc:description/>
  <dc:language>en-US</dc:language>
  <cp:lastModifiedBy>mr</cp:lastModifiedBy>
  <dcterms:modified xsi:type="dcterms:W3CDTF">2001-05-09T14:59:33Z</dcterms:modified>
  <cp:revision>2</cp:revision>
  <dc:subject/>
  <dc:title>Gutenberg  (Johannes Gensfleisch, dit) (Mayence, entre 1394 et 1399 ­ id., 1468), imprimeur allemand. Il perfectionna l’imprimerie en mettant au point les caractères typographiques de métal mobiles. Il travailla à Strasbourg entre 1430 et 1444 avant de regagner Mayence. Gutenberg aurait imprimé des feuilles mobiles qui marquent le début de la presse, un Calendrier astronomique, une Bible dite «à quarante-deux lignes» ou «Bible de Gutenberg», une Bible «à trente-six lignes» et des Lettres d’indulgence. Protégé par Adolphe de Nassau, archevêque de Mayence, il put y fonder, en 1465, une nouvelle imprimerie. </dc:title>
</cp:coreProperties>
</file>