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5A4-C45C-4D3D-A345-F09DA374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9E2-8FCD-44AD-8B52-B23D923F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A995-1249-4833-A262-6C33959B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4B5-8A22-43EE-8821-39C662D5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FFF-5139-4264-A46F-99E1B84A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48D-AC62-439A-98A5-E155DA4F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253-F792-46E4-8C7E-BC6520EB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0A9-0A8D-4F55-8ED2-D75C1479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F5E-B3C4-493F-BA7B-C91A5C09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7D9-FD0F-4A63-96C1-4ADE95C8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40B-5AA0-4914-A996-8E83598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0C9-089E-40D6-861A-05F977C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0B4C-3532-4FD2-8DA3-7A27ED1B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ire.typographie.org/gutenberg/sommaire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utenberg" descr="Johann Gensfleisch dit Gutenbe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gutenber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00:37Z</dcterms:created>
  <dc:creator>mr</dc:creator>
  <dc:description/>
  <dc:language>en-US</dc:language>
  <cp:lastModifiedBy>mr</cp:lastModifiedBy>
  <dcterms:modified xsi:type="dcterms:W3CDTF">2001-05-09T15:04:59Z</dcterms:modified>
  <cp:revision>2</cp:revision>
  <dc:subject/>
  <dc:title>Gutenberg </dc:title>
</cp:coreProperties>
</file>